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5A2-74C8-499C-8A8F-C8C9A0EB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704-1AA5-4F9B-B0BD-39D5E3F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34E-D361-43AB-8ABE-B733A444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DE0-B9EC-42CF-9400-DF5B9BF2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3966-5FC9-4129-814B-B3BC0295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E9DF-5541-407D-9BAA-4AAD99C5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EC26-BE91-47FC-B945-B1BDD5F5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5169-17B3-4C8D-B037-777DE8F2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68A4-E80F-4523-B763-7F39B331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0E8-EE4E-41BE-B714-F70BF0A6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D440-0AF8-4062-B496-E0A58CFF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31E-D719-4915-AEF8-198B2767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FE07-5E1B-4380-B03D-A3E4DD51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1CEA-EFF2-4801-AEA8-666441C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A807-AA69-4F95-8AF8-81DEFB05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38F3-D030-42B0-9D99-4D19D2B3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44CC-153D-49F1-AD2C-F0043A63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EBF-CCE7-425C-90AB-4402FB3A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6DB-5725-40D5-B577-2656A729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096-6C75-487A-925A-F305820E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2CF-A1BD-4D40-ADC3-AB5804F8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B06-1468-43DE-AEF0-4D97A34C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706-35EE-47B0-9DE7-AE32CFED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2E3-A3E2-4902-8319-97C1053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423B-1F7A-4E7E-A08C-9CF506A7B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D986-26DA-4E63-AD15-63068920B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80880"/>
            <a:ext cx="86868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39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O plano de aproveitamento econômico da jazida será apresentado em duas vias e constará d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Memorial explicativ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 - Projetos ou anteprojetos referente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ao método de mineração a ser adotado, fazendo referência à escala de produção prevista inicialmente e à sua projeçã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à iluminação, ventilação, transporte, sinalização e segurança do trabalho, quando se tratar de lavra subterrâne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 ao transporte na superfície e ao beneficiamento e aglomeração do minéri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) às instalações de energia, de abastecimento de água e condicionamento de a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) à higiene da mina e dos respectivos trabalho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) às moradias e suas condições de habitabilidade para todos os que residem no local da mineraçã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) às instalações de captação e proteção das fontes, adução, distribuição e utilização de água, para as jazidas da Classe VIII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8:30Z</dcterms:modified>
  <cp:revision>64</cp:revision>
  <dc:subject/>
  <dc:title>Apresentação do PowerPoint</dc:title>
</cp:coreProperties>
</file>